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click.wav" ContentType="audio/x-wav"/>
  <Override PartName="/ppt/media/hammer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272C-9B0C-476A-82E4-62E4F4DE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D2B-D57A-40B8-8E21-C22AD1A7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0D5-0E47-4162-9BC1-DF97EC13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A6A-A9A7-486A-9BAB-7D46F1ED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3094-4FD2-4445-ADB9-8FD6A2D5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85C0-9EB7-4DA7-B355-19115566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742A-3CAA-41EA-880F-7E5D83BF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2462-7AED-4D18-A261-D21D434F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A04F-78C2-4972-A730-933C6470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A89C-9960-4331-8378-14C707C0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B386-13AB-467C-9D95-51F49E4A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983E-5A3C-4CFE-AEFF-7F186E55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B325-30DB-4DB6-AA86-8E952462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5F11-B7C6-4874-B7A2-379006E5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223B-30D2-4015-821A-E1E671ED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BA14-9376-459C-8FAA-ADBF72E6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131E-0805-4E8C-B9D5-C7DC7449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388-1371-47EC-B4AF-3F212A97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D0AE-BE3E-4416-9AA2-7D2E0613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19B-6C62-46D9-B31B-B84FCE85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D506-7BE0-487F-A3CC-C69A1E31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E7F3-EB98-4E0F-AFE8-14087B17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02C8-D103-4510-86EE-51FBA8A2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C6CA-F533-486E-966E-FB1E171A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539640" y="1125360"/>
            <a:ext cx="8305920" cy="182520"/>
            <a:chOff x="539640" y="1125360"/>
            <a:chExt cx="8305920" cy="182520"/>
          </a:xfrm>
        </p:grpSpPr>
        <p:sp>
          <p:nvSpPr>
            <p:cNvPr id="2" name=""/>
            <p:cNvSpPr/>
            <p:nvPr/>
          </p:nvSpPr>
          <p:spPr>
            <a:xfrm>
              <a:off x="7016760" y="1125360"/>
              <a:ext cx="1828800" cy="182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9640" y="1201680"/>
              <a:ext cx="8305920" cy="0"/>
            </a:xfrm>
            <a:prstGeom prst="line">
              <a:avLst/>
            </a:prstGeom>
            <a:ln w="190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2FFA-E170-4D19-9459-6365D16A45E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9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3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81A2-DA4F-479A-BAB0-455D0E76EEF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09080" y="64911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reated by </a:t>
            </a:r>
            <a:r>
              <a:rPr b="1" i="1" lang="zh-CN" sz="1800" spc="-1" strike="noStrike">
                <a:solidFill>
                  <a:srgbClr val="0000ff"/>
                </a:solidFill>
                <a:latin typeface="Arial"/>
              </a:rPr>
              <a:t>Dreamskier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E-mail: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</a:rPr>
              <a:t>dreamskier@sin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00362315734150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14400" y="533520"/>
            <a:ext cx="7467480" cy="1981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Unit  5   Advertis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895480"/>
            <a:ext cx="4572000" cy="100836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Lesson   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-152280"/>
            <a:ext cx="9144000" cy="83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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11.  The following could be an advertisement except________.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　　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mail                               B. 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 a sign outside a shop    D. products free of charge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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12.  In this text,  the writer does not tell us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 advertisements can be used in tour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  balloons can be used to adv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 advertising may make a product chea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  advertisement in Europe is more comm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an that in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95680" y="2209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080" y="5562720"/>
            <a:ext cx="571680" cy="533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609480"/>
            <a:ext cx="845820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13.Why can good advertisements reduce the price of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Repeated advertising increases product sales and therefore increases product sales and therefore increases production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The more products are made, the less the cost i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Advertising costs little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Both A and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44197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10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Step 3.language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685800"/>
            <a:ext cx="89154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The development of radio,television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cinema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magazines and newspapers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has gone hand in hand with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development of advertising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．无线电、电视、电影、杂志和报纸的发展同广告业的发展是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齐头并进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2666880"/>
            <a:ext cx="883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o hand in hand 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表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与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密切相关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相当于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o together 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其中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o 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表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相配，随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而来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之意。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hand in hand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为副词短语，表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手牵着手，密切联系，和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一道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之意，后面常加介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再加名词。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524016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Money doesn’t always go hand in hand with happiness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6064200"/>
            <a:ext cx="76197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金钱并不总是同幸福密切相关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60948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norance and poverty often go hand in hand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．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447920"/>
            <a:ext cx="7467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愚昧和贫穷总是紧密地联结在一起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23623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ave no tapes to go with the book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32767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我没有这本书配套的磁带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4267080"/>
            <a:ext cx="7696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nd in hand with readin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developing the habit of making note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5627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在阅读的同时，他养成了做笔记的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06440" y="317520"/>
            <a:ext cx="9112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hand in han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han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 han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y han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143000"/>
            <a:ext cx="9385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hand in hand ---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手牵手，携手，共同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981080"/>
            <a:ext cx="9294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n hand---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在手里／手边，进行中，掌握中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2625840"/>
            <a:ext cx="92948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t hand ---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手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常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lose , near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连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8280" y="3276720"/>
            <a:ext cx="9385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by hand ---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用手工做，由专人递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3857760"/>
            <a:ext cx="92966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always keep a dictionary _____________  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r sweater is knitted ___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walked ______________ in the garde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police had the riot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暴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__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3809880"/>
            <a:ext cx="22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/at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4343400"/>
            <a:ext cx="25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510552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nd in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5715000"/>
            <a:ext cx="20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1219320"/>
            <a:ext cx="82296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ould say=used to say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过去的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ten h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woul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ake a seat at the back before the lecture b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sed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be a hospital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过去持续的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ill not have the money to spend on books as h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sed to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前经常（现在不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Word formation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joke+ing+ly=joking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66ff"/>
                </a:solidFill>
                <a:latin typeface="Arial"/>
              </a:rPr>
              <a:t>smilingly; surprisingly; understandingl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e explained the whole story and her boss nodded </a:t>
            </a:r>
            <a:r>
              <a:rPr b="1" i="1" lang="zh-CN" sz="2800" spc="-1" strike="noStrike">
                <a:solidFill>
                  <a:srgbClr val="0066ff"/>
                </a:solidFill>
                <a:latin typeface="Arial"/>
              </a:rPr>
              <a:t>understand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解释了事情的全部经过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的上司理解地点着头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musician smiled </a:t>
            </a:r>
            <a:r>
              <a:rPr b="1" i="1" lang="zh-CN" sz="2800" spc="-1" strike="noStrike">
                <a:solidFill>
                  <a:srgbClr val="0066ff"/>
                </a:solidFill>
                <a:latin typeface="Arial"/>
              </a:rPr>
              <a:t>approv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while the little girl was playing the pi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女孩弹奏钢琴时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位音乐家赞许地微笑着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Word formation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1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66ff"/>
                </a:solidFill>
                <a:latin typeface="Arial"/>
              </a:rPr>
              <a:t>Surpris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the weather report on the evening before the storm said there would be strong winds, but not a hurric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 replied </a:t>
            </a:r>
            <a:r>
              <a:rPr b="0" i="1" lang="zh-CN" sz="2800" spc="-1" strike="noStrike">
                <a:solidFill>
                  <a:srgbClr val="0066ff"/>
                </a:solidFill>
                <a:latin typeface="Arial"/>
              </a:rPr>
              <a:t>laugh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“Aren’t you making the same mistakes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大笑着回答说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不是也犯同样的错误吗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2286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think u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nk ou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99072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nk up --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设想、构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cre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828800"/>
            <a:ext cx="7696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nk out --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仔细思考并研究出（计划等），或者想透问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work 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497400"/>
            <a:ext cx="7696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0481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ought u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wo ways to solve the problem of dealing with the waste in front of our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47242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spent a whole week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inking 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contract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5486400"/>
            <a:ext cx="9144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soner tried to think up a plan for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ink up, think out, think ov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1000"/>
            <a:ext cx="8458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think u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指想出来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虚构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: consider carefully and make a plan for(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仔细思考并制定计划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也有仔细思考之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但只着重思考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不涉及结果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hink up, think ou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着重于结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We have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thought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carefully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over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your proposal of yesterd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Who can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think ou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the solution to the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Delighted, the girls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thought u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many good ide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6408720" cy="4265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09680" y="38088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dvertis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516640"/>
            <a:ext cx="2808360" cy="863640"/>
          </a:xfrm>
          <a:prstGeom prst="wedgeEllipseCallout">
            <a:avLst>
              <a:gd name="adj1" fmla="val 9523"/>
              <a:gd name="adj2" fmla="val -7389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3141720"/>
            <a:ext cx="2808360" cy="863640"/>
          </a:xfrm>
          <a:prstGeom prst="wedgeEllipseCallout">
            <a:avLst>
              <a:gd name="adj1" fmla="val 38805"/>
              <a:gd name="adj2" fmla="val -7977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49360"/>
            <a:ext cx="3203640" cy="863640"/>
          </a:xfrm>
          <a:prstGeom prst="wedgeEllipseCallout">
            <a:avLst>
              <a:gd name="adj1" fmla="val 37560"/>
              <a:gd name="adj2" fmla="val 16084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4768920"/>
            <a:ext cx="5724360" cy="1324080"/>
          </a:xfrm>
          <a:prstGeom prst="wedgeEllipseCallout">
            <a:avLst>
              <a:gd name="adj1" fmla="val -19328"/>
              <a:gd name="adj2" fmla="val -17889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graph of th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52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5. try out     try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0666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ry out---v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试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考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提炼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指试验 试用某种机器、理论、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286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ry on---v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试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试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297180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idea sounds fine ,but we need to try it out in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42670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ew medicine is being tried out on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502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you like the shoes, why not try them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86728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trying out new teaching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685800"/>
            <a:ext cx="9144000" cy="29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sn't it time you made someone's life a bit easi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’s (high) time sb did sth /should do sth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虚拟语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某人作某事的时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s it time you got things read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58128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's time you gave it up.=It's time you should give it up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放弃的时候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59260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's time you told him the truth.=It's time you should told him the truth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到告诉他事实的时候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4830480"/>
            <a:ext cx="77724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icture may be seen in an ad in the form of TV, cinema, magazine, newspapers, large boards (billboards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74920" y="549360"/>
            <a:ext cx="6553080" cy="4011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Step 1 Note making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0066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How can you adverti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y using radio, TV, cinema, magazine, newspapers, large boards, signs, balloons, messages pulled behind planes and so 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0066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What can you adverti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roducts, services, political leaders in the western countries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0066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esults of advertis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t increases product sal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t reduces pri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223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People’s job in an advertising firm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0033"/>
                </a:solidFill>
                <a:latin typeface="Arial"/>
              </a:rPr>
              <a:t>How are ads mad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 company goes to an advertising fi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(People’s jobs) in an advertising fi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is in charge of the program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thinks up an id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buys space o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writes the tex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designs the advertise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7480" y="152280"/>
            <a:ext cx="9056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tep 2. Reading compreh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author thinks that advertisements ________.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are welcome by everybody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. will increase the cost of products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have bad influence on people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. can win more customers for a company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In Paragraph 1, which word does the writer use to express his idea that advertising is common?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Developed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. Popular.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Proved.              D. Increase. 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According to the text, advertisements may be used in ________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everyth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　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 election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scientific research         D. education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580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57640" y="3505320"/>
            <a:ext cx="43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3581280"/>
            <a:ext cx="6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486400"/>
            <a:ext cx="4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372600" cy="74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How many means of advertising are mentioned in the tex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7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9       C   1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1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Which paragraph talks about the purpose of advertising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Paragraph 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Paragraph 2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Paragraph 3.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Paragraphs 4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When an advertising company makes advertisements, which happens firs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A. Having a meeting.  B. Collecting information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C. Writing a t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Designing the advertis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97360" y="990720"/>
            <a:ext cx="7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666880"/>
            <a:ext cx="7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8720" y="4876920"/>
            <a:ext cx="6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380880"/>
            <a:ext cx="8839080" cy="76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What does “interview” mean in the last paragraph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A. See.   B. Select.    C. Visit.    D. Ask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What can we infer from Paragraph 2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Only a few things can be advertised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It is difficult to use printed things for advertisement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Political advertisements can only be seen in USA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Advertisements are everywhere for so many thi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38680" y="1295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5800" y="5562720"/>
            <a:ext cx="533520" cy="609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4400" y="1066680"/>
            <a:ext cx="769608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 How many steps are there in making an advertisemen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6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7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 When the advertisement is ready, it is shown only to a part of the country as a (an)______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review                      B.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performanc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2057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72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5:55:07Z</dcterms:created>
  <dc:creator>幻想的天空</dc:creator>
  <dc:description/>
  <dc:language>en-US</dc:language>
  <cp:lastModifiedBy>w</cp:lastModifiedBy>
  <dcterms:modified xsi:type="dcterms:W3CDTF">2004-08-23T15:43:35Z</dcterms:modified>
  <cp:revision>144</cp:revision>
  <dc:subject/>
  <dc:title>幻灯片 1</dc:title>
</cp:coreProperties>
</file>